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6E20-5480-4F9A-9B5F-075268304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C489-5FBD-418B-AA9D-54F99744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0D3D-1975-43A7-8913-7C6CAF414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BB49-56F1-48C8-A49F-8F046A7B7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63D18-F18F-49CA-A7AB-4B5CF0C26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FAD28-C5CD-40AA-8FC7-4B8BD28C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D8763-EA4A-4D7C-875F-78B06E39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3A2B9-DAD0-4A1B-A42C-FCC5F963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6FC9A9-B71A-4F84-B013-EE1E49E5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92C088-7346-49C9-90B0-A73C8268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AD0349-231C-403E-BF45-931A2321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06B6-15DF-4415-8B48-3205B1C6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D1FF74-1FBA-4E81-B857-1A6FBE25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E2C0A-E462-4DC6-93A4-578F0438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CA768-5592-4FFD-8AA4-77C08302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CBD36-E57A-4DBF-92E9-402DA06CC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7816F-723A-48AC-B852-01A538902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B013-78BF-48DF-B9E1-F28BD814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093A-DCF8-490B-9986-23A56224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59C7-7C09-466F-90E5-24EAB615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3039-01BA-4CEA-8425-CE918963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8C5A-94B5-4BA2-8451-FABBFEAC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EE78-F6B2-473B-BBD1-E6CB0FD8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D98B-74B2-4B5A-B8B1-4C376D7A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3D53-ED8D-4A7F-9FFD-B31604A0EA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C95F-EC27-420C-9E7F-05641FACFB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Huge Hurrican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y Kristen, Allison, Mackenzie, Josep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63248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are hurricane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urricanes are severe tropical storms that form in the Southern Atlantic Ocean, Caribbean Sea, Gull of Mexico, and in the Eastern Pacific Oce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14600" y="3581280"/>
            <a:ext cx="476244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are hurricanes formed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urricanes only form over really warm ocean water of 80’F or warmer. The atmosphere (the air) must cool of very quickly the higher you g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14600" y="3505320"/>
            <a:ext cx="4343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effects do hurricanes have on us?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urricanes can cause damage and people can lose their homes, food, and famil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600200" y="3200400"/>
            <a:ext cx="5562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19440" y="-720"/>
            <a:ext cx="260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Hurricane Stages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          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549360"/>
          <a:ext cx="9144000" cy="63100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ropical Wa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 low pressure trough moving generally westward with the trade wind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ropical Disturb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n organized area of thunderstorms that usually forms in the tropics. Typically, they maintain their identity for 24 hours and are accompanied by heavy rains and gusty wind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ropical Cycl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 generic term for any organized low pressure that develops over tropical and sometimes sub-tropical waters. Tropical depressions, tropical storms, and hurricanes are all example of tropical cyclone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ropical Depress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n organized area of low pressure in which sustained winds are 38 mph or les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ropical Stor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 tropical cyclone with maximum sustained wind speeds that range from 39 to 73 mph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Hurrica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 tropical cyclone with sustained winds of at least 74 mph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6" name="" descr="Hurricane"/>
          <p:cNvPicPr/>
          <p:nvPr/>
        </p:nvPicPr>
        <p:blipFill>
          <a:blip r:embed="rId2"/>
          <a:stretch/>
        </p:blipFill>
        <p:spPr>
          <a:xfrm>
            <a:off x="1843200" y="46080"/>
            <a:ext cx="48564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en do hurricanes occur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tlantic hurricane season is from June 1 to November 30, but most hurricanes occur during the fall month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828800" y="3429000"/>
            <a:ext cx="5334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ere do hurricanes occur the most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orth Atlantic Ocea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astern North Pacific Ocea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orthwest Pacific Ocea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ay of Bengal / Arabian Se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outhwest Pacific Ocea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outheast Indian Ocea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outhwest Indian Ocea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5:44:44Z</dcterms:created>
  <dc:creator>Neo</dc:creator>
  <dc:description/>
  <dc:language>en-US</dc:language>
  <cp:lastModifiedBy>Neo</cp:lastModifiedBy>
  <dcterms:modified xsi:type="dcterms:W3CDTF">2010-02-03T17:02:16Z</dcterms:modified>
  <cp:revision>3</cp:revision>
  <dc:subject/>
  <dc:title>Huge Hurricanes</dc:title>
</cp:coreProperties>
</file>